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579-09E3-452A-9545-E881A8FC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9C7-EE85-4410-95E2-48029A95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6E4-4068-4BEB-B9F5-6F750ABA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497-5333-4905-A9C2-186F59F1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0A9-6850-4179-B36B-2913844D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4D9-EB62-4F59-8299-41A0AE73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249-5753-4E44-8ACD-69E189AC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088-7469-418B-B516-25423FB6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041-9373-4375-9875-D1800D5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67D-0DF6-4D8C-BFAA-A8B6039C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6F3-02EB-4920-94DA-F18C43C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472-6DB7-4A16-9DED-2668FCDF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B1CC-3B39-4C00-B3A0-EDC0840F15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18T05:45:47Z</dcterms:modified>
  <cp:revision>807</cp:revision>
  <dc:subject/>
  <dc:title>Free PPT Backgrounds</dc:title>
</cp:coreProperties>
</file>